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7D1-AF56-407B-94A2-F03183B0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DFA-49D2-4C8F-A6C8-64C3311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EF5-5E07-4D8E-AC93-E16BCBD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FC0-166F-4748-B66C-8087AA9B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7A3-234A-4A79-BCC1-7A233766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E15A-FD8F-434F-A432-0DB6D5C7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D73-625D-4130-847F-B0D2AE18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1716-61B8-46E1-8427-4B8FC8A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5BA0-716F-4910-AF0F-DE065E2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39C4-DA43-4FEB-9F50-A860DB7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BD6-1B23-46E9-96C0-91B9111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1B4-974A-42C9-9B18-0617905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000-2059-4E61-A1A0-2B48A92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5201-3E76-4440-AAD1-B81AE73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460F-C069-41D4-BA4F-0428852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298-7D0D-47BA-B08E-E136D581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A859-ED7F-4A84-9E9A-E04D15C3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72E-D6C1-4D32-A364-08A8B05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477-13A1-458A-BE27-9A64B07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60C-98EB-40EF-9DAB-A734550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2AB-5BEE-4C84-BCF6-2C86462B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0FA-8C80-4A38-911E-C12541A3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B57-206F-41A2-872E-C6D2E76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E42-D0DA-4CB9-9D8A-DD9163A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13E-2999-4696-8047-C95134A2E11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36C-4584-4721-9BAE-2FC17278245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igma.nkp.cz/eng/auv" TargetMode="External"/><Relationship Id="rId3" Type="http://schemas.openxmlformats.org/officeDocument/2006/relationships/hyperlink" Target="http://sigma.nkp.cz/eng/auv" TargetMode="External"/><Relationship Id="rId4" Type="http://schemas.openxmlformats.org/officeDocument/2006/relationships/hyperlink" Target="http://sigma.nkp.cz/eng/auv" TargetMode="External"/><Relationship Id="rId5" Type="http://schemas.openxmlformats.org/officeDocument/2006/relationships/hyperlink" Target="http://sigma.nkp.cz/eng/auv" TargetMode="External"/><Relationship Id="rId6" Type="http://schemas.openxmlformats.org/officeDocument/2006/relationships/hyperlink" Target="http://sigma.nkp.cz/eng/auv" TargetMode="External"/><Relationship Id="rId7" Type="http://schemas.openxmlformats.org/officeDocument/2006/relationships/hyperlink" Target="http://sigma.nkp.cz/eng/auv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http://www.nkp.cz/" TargetMode="External"/><Relationship Id="rId11" Type="http://schemas.openxmlformats.org/officeDocument/2006/relationships/hyperlink" Target="http://www.nkp.cz/" TargetMode="External"/><Relationship Id="rId12" Type="http://schemas.openxmlformats.org/officeDocument/2006/relationships/hyperlink" Target="http://www.nkp.cz/" TargetMode="External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n.org.pl/index.php?id=5&amp;bibl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UDC-development@udcc.org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128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acownia Uniwersalnej Klasyfikacji Dziesiętnej w kontekście współpracy z bibliotekami w Polsce oraz współpracy z Konsorcjum UKD i MSAC</a:t>
            </a:r>
            <a:r>
              <a:rPr b="0" lang="pl-PL" sz="4000" spc="-1" strike="noStrike">
                <a:solidFill>
                  <a:srgbClr val="30605a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>
                <a:solidFill>
                  <a:srgbClr val="30605a"/>
                </a:solidFill>
                <a:latin typeface="Arial"/>
              </a:rPr>
              <a:t>Jolanta Hys</a:t>
            </a:r>
            <a:br>
              <a:rPr sz="2400"/>
            </a:br>
            <a:r>
              <a:rPr b="0" lang="pl-PL" sz="2400" spc="-1" strike="noStrike">
                <a:solidFill>
                  <a:srgbClr val="30605a"/>
                </a:solidFill>
                <a:latin typeface="Arial"/>
              </a:rPr>
              <a:t>Pracownia UKD </a:t>
            </a:r>
            <a:br>
              <a:rPr sz="2400"/>
            </a:br>
            <a:r>
              <a:rPr b="0" lang="pl-PL" sz="2400" spc="-1" strike="noStrike">
                <a:solidFill>
                  <a:srgbClr val="30605a"/>
                </a:solidFill>
                <a:latin typeface="Arial"/>
              </a:rPr>
              <a:t>(5 czerwca 2009 r.)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 MSAC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65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S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Multilingual Subject Access to Catalogues of National Libr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http://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3"/>
              </a:rPr>
              <a:t>sigma.nkp.cz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/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5"/>
              </a:rPr>
              <a:t>eng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6"/>
              </a:rPr>
              <a:t>/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7"/>
              </a:rPr>
              <a:t>a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elem pilotowanego przez Czechy przedsięwzięcia MSAC jest stworzenie wielojęzycznego słownika przekładowego pomiędzy UKD a pozostałymi językami sztuczny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j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spółpra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ramach Multilingual Subject Access to Catalogues of National Libraries (MSAC)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SAC to kooperacja na gruncie UKD 7 bibliotek narodowych: Chorwacji, Czech, Łotwy, Litwy, Macedonii, Słowacji i Słowen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rie Bal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eska Biblioteka Narodowa (Pra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000" spc="-1" strike="noStrike" u="sng">
                <a:solidFill>
                  <a:srgbClr val="c1c177"/>
                </a:solidFill>
                <a:uFillTx/>
                <a:latin typeface="Arial"/>
                <a:hlinkClick r:id="rId10"/>
              </a:rPr>
              <a:t>http://</a:t>
            </a:r>
            <a:r>
              <a:rPr b="0" lang="pl-PL" sz="2000" spc="-1" strike="noStrike" u="sng">
                <a:solidFill>
                  <a:srgbClr val="c1c177"/>
                </a:solidFill>
                <a:uFillTx/>
                <a:latin typeface="Arial"/>
                <a:hlinkClick r:id="rId11"/>
              </a:rPr>
              <a:t>www.nkp.cz</a:t>
            </a:r>
            <a:r>
              <a:rPr b="0" lang="pl-PL" sz="2000" spc="-1" strike="noStrike" u="sng">
                <a:solidFill>
                  <a:srgbClr val="c1c177"/>
                </a:solidFill>
                <a:uFillTx/>
                <a:latin typeface="Arial"/>
                <a:hlinkClick r:id="rId12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 MSAC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MSAC-a wybierane są te symbole, które występują w kartotece wzorcowej Czech (CZE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niki słowne w języku angielskim pochodzą z LC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współpracy w MSAC zostały przygotowane i przesłane polskie odpowiedniki słowne do dział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o. Odpowiedniki w języku polskim zostały pobrane po pierwsze z tablic skróconych P058 oraz tablic pełnych z 1984 r. (FID 607), po drugie języka naturalnego, po trzecie z JHP B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– MSAC - współpraca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ano 550 odpowiedników słownych do 550 symboli U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nd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222(430.131.1/.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rlin Wall, 1961-1989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ur Berliński, 1961-198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222(430+438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der-Neisse Line (Germany and Poland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Granica na Odrze i Nysie Łużycki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222:341.6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conflict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konflikty gran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22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ritorial changes –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zmiany terytorial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MSAC - Współpraca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1.7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acekeeping forces 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ły pokoj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9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vate international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o międzynarodowe prywat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95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iens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a cudzoziem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.96:339.5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trade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o handlowe międzynarod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:34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and municipal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prawo międzynarodowe i prawo kraj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1:502/50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environmental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o międzynarodowe ochrony środow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o publ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itutional la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awo konstytu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spotkaniu wzięli udział przedstawiciele największych bibliotek publicznych z dziewięciu województw i pracownicy B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m spotkania było poznanie opinii i potrzeb środowiska bibliotek publicznych wykorzystujących UKD do porządkowania książek na półkach oraz do charakteryzowania treściowego książ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dności klasyfikowania literatury piękn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 94 His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D w klasyfikowaniu materiałów biograficz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działowy wg UKD w wolnym dostępie do pół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65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a wymienionymi tematami zwrócono uwagę na następujące probl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) Reklasyfikacja związana z wprowadzeniem symboli z tablic skróconych P058. Zwrócono uwagę na możliwość rozwiązania problemu reklasyfikacji z pomocą kartoteki wzorcowej UKD. Symbole z poprzednich wydań tablic odsyłałyby do wydania bieżące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Adekwatność a prostota charakterystyk treściowych zgodnych z UKD. Potrzeby bibliotek publicznych są różne, uzależnienie od wielkości zbiorów, charakteru piśmiennictwa. Małe biblioteki (filie bibliotek wojewódzkich) wykorzystują UKD do układu działowego książek na półkach w księgozbiorze podręcznym, jako sygnaturę miejsca. Biblioteki duże, wojewódzkie stosują UKD w jej dwóch funkcjach – języka opisu treści dokumentu i sygnatury miejs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Przetłumaczenie pliku wzorcowego UKD (MRF) na język pols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zewodnik Bibliograficz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B) jako wzorzec opracowania rzeczowego zbiorów. Uczestnicy spotkania podkreślili znaczenie PB w kształtowaniu metody klasyfikowania  dokumentó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Spotkanie z bibliotekarzami bibliotek publicznych – 4-5 grudnia 2008 r. oraz spotkanie z bibliotekarzami biblioteka akademickich – 19-20 maja 2009 r.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t klasyfikacji do ustawienia księgozbioru w wolnym dostę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tosowanie UKD do układu działowego księgozbioru w wolnym dostępie do pół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świadczenia Biblioteki Politechniki Świętokrzyskiej, Biblioteki Akademii Ekonomicznej i Uniwersytetu Śląskiego – Centrum Informacji Naukowej i Biblioteka Akademic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powiedniki słowne w indeksach UKD w systemach zautomatyzowa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e1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160" y="1052280"/>
            <a:ext cx="74041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a z Konsorcjum UK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spółpraca w ramach Multilingual Subject Access to Catalogues of National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tkania warsztatowe UKD (4-5 grudnia 2008 r.; 19-20 maja 2009 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chemat układu działowego dla Bibliografii Dokumentów Kartograficznych BN i Bibliografii Wydawnictw Ciągłych B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akademickich – 19-20 maja 2009 r.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spotkaniu (poza przedstawicielami BN) wzięli udział przedstawiciele bibliotek akademickich, w tym politechnik (Białostocka, Lubelska, Warszawska), uniwersytetów (Kielecki, Szczeciński, Śląski, Warszawski, Zielonogórski) Akademii Ekonomicznej (Katowice), Akademii Wychowania Fizycznego (Katowice, Warszawa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Spotkanie z bibliotekarzami bibliotek akademickich stosującymi UKD 19-20 maja 2009 r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matyka spotk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rtoteka haseł wzorcowych UKD w katalogu komputerowym Biblioteki Politechniki Białostocki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formatach dla Uniwersalnej Klasyfikacji Dziesiętnej (format UNIMARC, format MARC 21, Format for Authority Data – pole 080, Format for Bibliographic Data – pole 08X, Format for Classification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żywanie odpowiedników słownych do symboli UKD w zautomatyzowanym indeksie U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działy wspólne miejsca, czasu i podział alfabetycznym A/Z (praktyka Przewodnika Bibliograficznego, możliwości teoretyczne, przydatność w katalogach komputerow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Współpraca w BN</a:t>
            </a: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wg UKD dla Bibliografii Wydawnictw Kartograficz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wg UKD dla Bibliografii Wydawnictw Ciągł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wg UKD dla Bibliografii Zawartości Czasopism i klasyfikowanie zgodne z UKD (w plan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– Bibliografia Dokumentów Kartograficznych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współpracy z Zakładem Wydawnictw Kartograficznych przygotowujemy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kład działowy wg UKD dla Bibliografii Dokumentów Kartograficzn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Układ ten zostanie wykorzystany w planowanej prezentacji Bibliografii Wydawnictw Kartograficznych w formacie PDF. Zaproponowany podział systematyczny pozwoli na wyszukiwanie dokumentów kartograficznych według poddziałów wspólnych miej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 Bibliografia Dokumentów Kartograficznych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125360"/>
            <a:ext cx="7386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d ISO 3166-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y przez Międzynarodową Organizację Normalizacyjną. Służy do kodowania nazw państw, terytoriów zależnych oraz jednostek ich podziałów administracyjnych. Jest odmianą geokodu. Kody dla województw w Pols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-D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ództwo dolnośląski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-KP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ództwo kujawsko-pomor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-L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ództwo lubelsk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-L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ództwo lubuski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912(438)D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dolnoślą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912(438)K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kujawsko-pomor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912(438)L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lubel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912(438)L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lubusk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Bibliografia Dokumentów Kartograficznych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t układu dokumentów kartografi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1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Św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1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smos. Ni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óry. Wyży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ówniny. Niz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6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ean Atlantycki. Atlant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61.2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ze Bałtyckie. Bałt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61.2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ze Północ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(26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ze Śródziem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605a"/>
                </a:solidFill>
                <a:latin typeface="Arial"/>
              </a:rPr>
              <a:t>Aktualności – Bibliografia Wydawnictw Ciągłych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cownia UKD w ramach współpracy z Zakładem Wydawnictw Ciągłych przygotow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kład działowy wg UKD dla Bibliografii Wydawnictw Ciągł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Układ ten zostanie wykorzystany w planowanej prezentacji Bibliografii Wydawnictw Ciągłych w formacie PDF, n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50+070](1-32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zasopisma regionalne i lok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50+070]-054.57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opisma mniejszości narod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50+070]-055.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Czasopisma kob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351/354-027.568(05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zienniki urzęd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64(05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ospodarstwo domowe. Kucharstwo. Gastronomia. Hotelarstwo. Robótki rę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0605a"/>
                </a:solidFill>
                <a:uFillTx/>
                <a:latin typeface="Arial"/>
              </a:rPr>
              <a:t>Aktualności – Bibliografia Wydawnictw Ciągłych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fia publikowana jest kwartalnie jako plik PDF. Bibliografia ma układ działowy według klasyfikacji UK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k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http://www.bn.org.pl/index.php?id=5&amp;bib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kolejne tłumaczenie dokonane na zbiorze Master Reference File powinno uwzględniać pełne tłumacze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woliło by to na stworzenie podstawy dla dogodnych adaptacj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la bibliotek operujących całym słownictwem M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la bibliotek potrzebujących bardzo skróconych wyd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Jak powinno wyglądać kolejne wydanie tablic?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280" y="1828800"/>
            <a:ext cx="70563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szczegółowe powinny być symbole wybrane z MRF wprowadzane do zasobu tablic skróco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e spotkania pracowników bibliotek pedagogicznych i szkół wyższych, dla których zasób skrócony tablic jest niewystarczający, z pracownikami BN byłyby pożądane. Uzgodnienia w kwestiach stosowania UKD są przez wymienione biblioteki podejmowane – ale BN ich nie z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Konsultacje, dyskusje, wnioski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ff"/>
                </a:solidFill>
                <a:latin typeface="Arial"/>
              </a:rPr>
              <a:t>UDC-development discussio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stworzona dla członków </a:t>
            </a:r>
            <a:r>
              <a:rPr b="0" lang="pl-PL" sz="2800" spc="-1" strike="noStrike">
                <a:solidFill>
                  <a:srgbClr val="ff00ff"/>
                </a:solidFill>
                <a:latin typeface="Arial"/>
              </a:rPr>
              <a:t>Editorial Team, UDC Advisory Board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zaproszonych</a:t>
            </a:r>
            <a:r>
              <a:rPr b="0" lang="pl-PL" sz="2800" spc="-1" strike="noStrike">
                <a:solidFill>
                  <a:srgbClr val="ff00ff"/>
                </a:solidFill>
                <a:latin typeface="Arial"/>
              </a:rPr>
              <a:t> UDC experts.</a:t>
            </a:r>
            <a:br>
              <a:rPr sz="2800"/>
            </a:b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UDC-development@udc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Czy opracowanie ujednoliconego schematu – układu działowego książek na półkach jest możliwe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34364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ki w regionach przygotowują schematy klasyfikacyjne dla bibliotek fil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 praca jest przygotowywana w różnych ośrodk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ych obserwacji i rozmów wynika, że oczekuje się od Biblioteki Narodowej przygotowania takich właśnie schema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UKD w jego funkcji porządkowania zbiorów i sygnatury miejsca w BN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ozytorium dokumentów elektronicznych (online i offline) B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zukiwanie wg działów UKD w Bibliografii Dokumentów Kartograficznych i w Bibliografii Wydawnictw Ciągł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kład działowy w Czytelni Głównej 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Funkcje UKD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jeśli do ustawienia książek na półkach to w funkcji symbolu skróconego, spełniającego funkcję sygnatury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funkcja adnotacyjna – wyrażenie zawart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funkcja wyszukiwawcza – funkcjonowanie w zbiorze wyszukiwawcz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UKD w funkcji adnotacyjnej i wyszukiwawczej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kwatność indeksowania (szczegółowe i szerokie indeksowanie a potrzeby biblio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atyka UKD w obliczu funkcjonowania UKD w środowisku komputer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pis poziomy a zapis pionowy w indeksie U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artoteki wzorcowe a format dla klasyf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Postulowana kartoteka wzorcowa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bazie tej można przeglądać i wyszukiwać dokumenty według symboli UKD, ale także według słów z UKD czyli haseł przedmiotowych utworzonych z odpowiedników słownych UK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biory te stanowią rodzaj słowników, w których obok przyjętych w systemie nazw ujednoliconych występują ich warianty – nazwy odrzucone. Nazwy odrzucone powiązane są z odpowiednimi nazwami ujednoliconymi, co umożliwia tworzenie odsyłaczy ogól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Kompatybilny format klasyfikacyjny przystosowany do przetwarzania symboli UKD ma być stosowany do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owania użytkownikom zmian w klasyf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rzymania tablic klasyfika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rzymania kartotek wzorcowych i kontroli d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szerzenia rzeczowego dostępu do katalogów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ocy dla klasyfikator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Kompatybilny format klasyfikacyjny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at umożliwia postkoordynacyjne wykorzystanie symboli UKD w wyszukiwaniu, a więc dekompozycję symboli rozwiniętych i złożonych oraz wyszukiwanie na podstawie każdego znaczącego ich elementu, a także wyszukiwanie na podstawie wyrażeń naturalnych odpowiadających znaczeniu poszczególnych symboli UK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Format powinien zapewnić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cję rozróżniającą rodzaje symboli (symbole główne, symbole pomocnic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iązania między elementami symboli rozwinię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is odpowiednika słownego symb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yfikację łańcucha hierarchicznego poprzedzającego klasę znakowaną danym symbo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Format powinien zapewnić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is odsyłaczy porównawczych, objaśnień, zaleceń dotyczących indek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is informacji o wcześniej stosowanych symbolach tematu zastąpionych danym symbolem aktual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kazanie wydania tablic, z których użyty symbol został zaczerpnię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kazanie języka publikacji ta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605a"/>
                </a:solidFill>
                <a:latin typeface="Arial"/>
              </a:rPr>
              <a:t>MARC PROPOSAL NO. 2009-03</a:t>
            </a:r>
            <a:br>
              <a:rPr sz="3000"/>
            </a:br>
            <a:endParaRPr b="0" lang="en-US" sz="3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2009-03: Definition of Field 080 in the MARC 21 Authority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 Nacional de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is paper proposes adding Field 080 to the MARC 21 Authority Format to contain a Universal Decimal Classification Number to be used for name, series and subject records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Współpraca z Konsorcjum UKD</a:t>
            </a:r>
            <a:br>
              <a:rPr sz="2800"/>
            </a:b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Przyszła rozbudowa działu 94(438)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94(438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Historia Polski – rozbudowa działu zgodnie z zaleceniami Konsorcjum U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(438)”…/0960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rehistory to the Early Middle Ages. Proto-Slavonic origins. Arrival of Slavonic Tribes to 9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(438)”0960/1386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iast dynasty. The Anjou dynasty, 960-1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(438)”1386/1572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Jagiellon dynasty, 1386-1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Pole 080 w </a:t>
            </a:r>
            <a:r>
              <a:rPr b="0" i="1" lang="pl-PL" sz="2800" spc="-1" strike="noStrike">
                <a:solidFill>
                  <a:srgbClr val="30605a"/>
                </a:solidFill>
                <a:latin typeface="Arial"/>
              </a:rPr>
              <a:t>Format for Authority Data</a:t>
            </a: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 - Biblioteka Narodowa Hiszpanii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4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200710019255PCMPBC  BNEP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8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$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58.2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$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Gestión de recurs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Facil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Gestión de activ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Condicione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67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$aLCSH$b(Facility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6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$aRAMEAU$b[Implantation (organisation)-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605a"/>
                </a:solidFill>
                <a:latin typeface="Arial"/>
              </a:rPr>
              <a:t>Rekord bibliograficzny</a:t>
            </a:r>
            <a:r>
              <a:rPr b="0" lang="en-US" sz="3000" spc="-1" strike="noStrike">
                <a:solidFill>
                  <a:srgbClr val="30605a"/>
                </a:solidFill>
                <a:latin typeface="Arial"/>
              </a:rPr>
              <a:t> – Biblioteka Narodowa Hiszpanii</a:t>
            </a:r>
            <a:endParaRPr b="0" lang="en-US" sz="3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80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       658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45 10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rategias y tácticas de Over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50 7     Gestión de recursos inmobili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Format for Classification Data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r Maria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 Cordeiro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UDC Editor-in-chi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r Aida Slavic, 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Associate Editor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63300"/>
                </a:solidFill>
                <a:latin typeface="Arial"/>
              </a:rPr>
              <a:t>Nie ma implementacji MARC 21 Format for Classification for U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Format for Classification Data – adaptacja PUKD - przykład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mbol klasyfikacji (niepowtarzal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odrzucony (pole powtarzalne). W naszej sytuacji tylko symbole z wcześniejszych wydań tablic, kierujące do wydań poprzed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opy. Symbole wchodzące w relacje z symbolem przyjętym (relacje hierarchiczne i kojarzeniow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ła indeks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5168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Odwzorowanie pól </a:t>
            </a: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formatu dla klasyfikacji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 w polach </a:t>
            </a: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formatu danych bibliograficznych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kord bibliograf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08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mbol UKD %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dział wspó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kord wzorcow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ymbol i poddział wspólny UKD %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dpowiednik słow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olanta 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.hys@bn.org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4055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Współpraca z Konsorcjum UKD</a:t>
            </a:r>
            <a:br>
              <a:rPr sz="2800"/>
            </a:b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w zakresie wyodrębnienia poddziałów wspólnych miejsca dla wyrażenia polskich województw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podstawi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owego Rejestru Urzędowego Podziału Terytorialnego (dane weryfikowane przez GUS) wniesione zostały poprawki do zaproponowanych przez Konsorcjum UKD symb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onsultowałyśmy zmiany w poddziale wspólnym miejsc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lsk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ostały wyodrębnione poddziały wspólne miejsca dla polskich województw. Podział jest zgodny z przeprowadzoną w 1999 r. reformą administracyjną n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Współpraca z Konsorcjum UKD</a:t>
            </a:r>
            <a:br>
              <a:rPr sz="2800"/>
            </a:b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Poddziały wspólne miejsca dla wyrażenia polskich województw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438.1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and easter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438.11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jewodztwo mazowieckie (Masovia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oivodeshi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lass here former provinces of Ciechanów, Ostrołęk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, Płock, Radom, Siedlce, Warsz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.111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arszawa (Warsaw) (state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Współpraca z Konsorcjum UKD</a:t>
            </a:r>
            <a:br>
              <a:rPr sz="2800"/>
            </a:br>
            <a:r>
              <a:rPr b="0" lang="pl-PL" sz="2800" spc="-1" strike="noStrike">
                <a:solidFill>
                  <a:srgbClr val="30605a"/>
                </a:solidFill>
                <a:latin typeface="Arial"/>
              </a:rPr>
              <a:t>Poddziały wspólne miejsca dla wyrażenia polskich województw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.4) North-western Po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.45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lubuskie (Lubusz Province). Gorzów Wielkopolski (capital) and Zielona Góra (capita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lass here former provinces of Gorzów, Zielona Gó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.46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wielkopolskie (Greater Poland Province)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znań (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lass here former provinces of Kalisz, Konin, Leszno, Piła, Pozn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438.47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ojewództwo zachodniopomorskie (West Pomeranian Province)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zczecin (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 MRF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onsultowałyśmy wprowadzenie bądź modyfikacje poddziałów wspólnych języ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2.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ęzyki pomorsk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2.2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ęzyk połab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2.25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ęzyk kaszub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łoszony został przez Pracownię UKD pomysł wyodrębnienia języka śląskieg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2.1…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z rozbudow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475920"/>
            <a:ext cx="7476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Aktualności - MRF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1.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ęzyk ukrai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161.25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ęzyk rusiński. Język łemkowsko-rusiński, Język rusińsko-łemkowski, Język karpatorusiński. Język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łemkow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=161.25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Łemko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821.161.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iteratura ukraiń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821.161.25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iteratura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Łem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40:43Z</dcterms:created>
  <dc:creator>j.hys</dc:creator>
  <dc:description/>
  <dc:language>en-US</dc:language>
  <cp:lastModifiedBy>a.borowska</cp:lastModifiedBy>
  <dcterms:modified xsi:type="dcterms:W3CDTF">2009-06-01T09:56:43Z</dcterms:modified>
  <cp:revision>49</cp:revision>
  <dc:subject/>
  <dc:title>Pracownia Uniwersalnej Klasyfikacji Dziesiętnej w kontekście współpracy z bibliotekami w Polsce oraz współpracy z Konsorcjum UKD i MSAC </dc:title>
</cp:coreProperties>
</file>